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B5235-F7FB-4EF3-80F8-EBEB403C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64388-FE96-405C-9551-BBF214A3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C51D-15A5-4167-86F7-E566DB8BD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333CD-4016-4E3B-A7B4-911A3F69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25DA5-E936-44BD-BBDB-5F3BF225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B861D-D5D4-4C2E-BFC9-179A71D20A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0666B-47CF-446C-937F-466EA49D2C8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99A85-9C57-40E2-B13E-031569D0F44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828E1-7440-4DE9-B333-BC4E428C56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1716A-55D7-43EE-9DEF-CCB94EBD08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0EB2E-B106-4991-ACB4-5CA39DBA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CBE48-5DF1-4BCD-99B5-BE9EC2B306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8D03D4-370F-445A-9BDE-176EFC6F34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6FFD6-93EA-4D56-95DB-4F21A2A490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371E4-1A9D-4A8B-8D67-F6CBC7D89A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59BAF2-8293-4B07-9D73-86E2A0AAB2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8120D0-30E2-45E0-9721-4EB762226E8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968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69600" y="90792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240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968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69600" y="3728880"/>
            <a:ext cx="27356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9E254-6251-4592-B80A-FFD8A5D977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B0808-3C73-41D2-AC49-99BCF8555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1339F-D173-4BA0-BBD5-2A114A5D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8000" y="191160"/>
            <a:ext cx="8928000" cy="19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509DD-9091-4EB0-8FC3-09BB76DE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1897E-D9EB-46E6-8608-9FD25E9B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480" y="372888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AE048-9D39-4DB4-8A17-C2CF7A3A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480" y="907920"/>
            <a:ext cx="41457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4000" y="3728880"/>
            <a:ext cx="8496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4C30E-CEB7-481D-AD31-94505762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5076-D057-4E25-9920-08F7F0441B46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>
            <a:off x="205920" y="6453000"/>
            <a:ext cx="213372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6d6d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표지9안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353535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2" descr="bg_master_main_shadowed"/>
          <p:cNvPicPr/>
          <p:nvPr/>
        </p:nvPicPr>
        <p:blipFill>
          <a:blip r:embed="rId2"/>
          <a:stretch/>
        </p:blipFill>
        <p:spPr>
          <a:xfrm>
            <a:off x="0" y="719280"/>
            <a:ext cx="9150480" cy="6138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수정3"/>
          <p:cNvPicPr/>
          <p:nvPr/>
        </p:nvPicPr>
        <p:blipFill>
          <a:blip r:embed="rId3"/>
          <a:stretch/>
        </p:blipFill>
        <p:spPr>
          <a:xfrm>
            <a:off x="69840" y="60480"/>
            <a:ext cx="9004320" cy="68724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2"/>
          <p:cNvSpPr/>
          <p:nvPr/>
        </p:nvSpPr>
        <p:spPr>
          <a:xfrm>
            <a:off x="166680" y="162000"/>
            <a:ext cx="831708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191160"/>
            <a:ext cx="8928000" cy="4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000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70000" indent="-2700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70000" indent="-2700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4"/>
          </p:nvPr>
        </p:nvSpPr>
        <p:spPr>
          <a:xfrm>
            <a:off x="8388360" y="6428880"/>
            <a:ext cx="606240" cy="2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ahoma"/>
                <a:ea typeface="돋움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42B9-16C3-4750-849D-A8FC55FF335A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3124080" y="6497280"/>
            <a:ext cx="289584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30472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Tahoma"/>
              </a:rPr>
              <a:t>Metin2 Server Win32 Port</a:t>
            </a:r>
            <a:endParaRPr b="1" lang="en-US" sz="3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46270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jaykang@webzen.co.k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HY헤드라인M"/>
              </a:rPr>
              <a:t>2011. 07. 2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FreeBSD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리소스 파일 등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bversio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통해 해당 파일들을 내려 받으면 인식 불가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맵 인덱스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78, 209, 210, 211, 215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 사용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ymbolic link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제 파일로 대체할 필요가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18E2-ACBB-4183-B1DE-A1F7809D13D3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Windows/VisualStudi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개발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Windows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에서 하더라도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,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대상 플랫폼은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다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API, Microsoft CR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 직접 호출 금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unterpart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찾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코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 안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용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가 끝나면 반드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서버에서 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인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090B-EC98-4CAC-99C7-16F44E26E7DA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배경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etin2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배포 대상 플랫폼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FreeBSD 7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4.1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*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계열로 확대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안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ublisher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Queu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서비스에 충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/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성능 제공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비용 절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관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Consol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db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버깅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가지 모두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&amp; 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중심으로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해 오던 개발자들에게는 매우 가파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earning curv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로 작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gt;&gt;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테스트를 위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환경 구축 요구 발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45520" indent="-245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9AB7-CFFF-406E-A25E-E0869C639CF0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날짜 개체 틀 4"/>
          <p:cNvSpPr/>
          <p:nvPr/>
        </p:nvSpPr>
        <p:spPr>
          <a:xfrm>
            <a:off x="206280" y="64533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969696"/>
                </a:solidFill>
                <a:latin typeface="Tahoma"/>
                <a:ea typeface="돋움"/>
              </a:rPr>
              <a:t>2000-00-00</a:t>
            </a:r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게임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장단점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장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과 실제 배포는 필요나 선호에 따라 선택된 독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진행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자 각자 익숙한 작업 환경 선택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FreeBSD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테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환경과 실 배포 환경의 차이는 여러 가지 잠재적인 문제 내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가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표적인 문제는 개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배포 환경에서의 서로 다른 동작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두 플랫폼 이상에서의 빌드와 동작을 유지하는 것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 플랫폼만 대상으로 하는 것보다 비용이 높아질 수 있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단점에도 불구하고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정된 조건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개발 생산성으로 얻는 이득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충분히 클 것으로 예상됨에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따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포팅 결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0B42-060C-44CA-9345-F6FC982371EE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개발의 걸림돌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기능을 이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Windows IOCP, Linux dev/epoll, FreeBSD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특정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만이 제공하는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들을 사용하는 경우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외에는 거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에서 크게 벗어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상이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능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CC g++ vs Visual C++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lib vs Microsoft Secure CR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mpiler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기능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용 키워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지원 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예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gcc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는 매크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함수에도 가변 인자 지원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별도의 중립적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을 공통으로 사용하지 않는다면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본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L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준 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확장 부분 및 세부 구현의 차이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1720" indent="-2617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EE8D-B818-4F68-933E-E2E8179F36C3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Cross-Platform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접근법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독립적인 인터페이스 또는 계층을 작성하고 둘 이상의 세부 구현을 연동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초기 구현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자가 독립적인 인터페이스 또는 계층을 숙지할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성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유지보수 비용 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중심으로 다른 쪽에서 인터페이스를 맞추어 가는 방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기존 구현 확장에 적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+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잘 문서화된 기존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PI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를 그대로 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빠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구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적용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[-]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 so good desig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시간 상의 이유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또 과도한 비용 투입을 피하기 위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선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99B6-EE1F-4139-B577-4E80C2F2DCC5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Metin2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/VisualStudio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포팅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arget Compiler: Microsoft Visual C++ 9.0 (Visual Studio 2008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기간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2011-07-13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~ 2011-07-20(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약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작업 개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 2008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솔루션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미 코드에 존재하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__WIN32__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전처리기 매크로로 조건부 컴파일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dwatch.c : KQueu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대신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sock select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룰 수 있는 소켓 최대 개수가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로 제한되지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용으로는 충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 Runtime Library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S API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호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라이브 배포 대상인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FreeBSD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Tahoma"/>
              </a:rPr>
              <a:t>가 중심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indows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지원되지 않는 부분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mul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C10F1-D1B5-44BB-80F2-48B23010AB4D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빌드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src/limit_time.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같은 폴더 내의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pdate_limit_time.py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실행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: Python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는 달리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빌드 과정에 포함되지 않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48E1-F61D-4004-B4DA-0F71EC374A73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Windows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서버 실행 준비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FI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설정 파일 구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ysq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서버 접속 정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vIL DL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bdevil/win32/bin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b, game, auth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g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하위디렉토리 생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ame/mark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디렉토리에 길드마크 이미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인덱스 파일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BSD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개발 테스트 서버에서 복사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현재 길드마크 인덱스 파일이 없는 경우 클라이언트 로그인 불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E168-9167-4A87-BF9B-0E0F2D3A24FA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8000" y="192240"/>
            <a:ext cx="892800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작업 시 주의 사항</a:t>
            </a:r>
            <a:r>
              <a:rPr b="1" lang="en-US" sz="22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1" lang="ko-KR" sz="2200" spc="-1" strike="noStrike">
                <a:solidFill>
                  <a:srgbClr val="ffffff"/>
                </a:solidFill>
                <a:latin typeface="Tahoma"/>
              </a:rPr>
              <a:t>공통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4000" y="90792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kefile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Studio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프로젝트 모두 항상 빌드 가능하게 유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Mak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등에 의존하지 않는 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다중 프로젝트 구성 수동 관리 필요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소스 파일 추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제거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이름 변경 등이 발생하는 경우 특히 주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텍스트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파일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d-of-line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문자에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관례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사용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sual Studio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에서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X EOL </a:t>
            </a:r>
            <a:r>
              <a:rPr b="1" lang="ko-KR" sz="2000" spc="-1" strike="noStrike">
                <a:solidFill>
                  <a:srgbClr val="000000"/>
                </a:solidFill>
                <a:latin typeface="Tahoma"/>
              </a:rPr>
              <a:t>표시에 문제 없음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000" indent="-270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슬라이드 번호 개체 틀 3"/>
          <p:cNvSpPr/>
          <p:nvPr/>
        </p:nvSpPr>
        <p:spPr>
          <a:xfrm>
            <a:off x="8388360" y="6429240"/>
            <a:ext cx="606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FB59-05F9-48E9-BC25-E840AC88E11E}" type="slidenum">
              <a:rPr b="0" lang="en-US" sz="1000" spc="-1" strike="noStrike">
                <a:solidFill>
                  <a:srgbClr val="969696"/>
                </a:solidFill>
                <a:latin typeface="Tahoma"/>
                <a:ea typeface="돋움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7:19:49Z</dcterms:created>
  <dc:creator>hjjoo</dc:creator>
  <dc:description/>
  <dc:language>en-US</dc:language>
  <cp:lastModifiedBy>cpascal</cp:lastModifiedBy>
  <dcterms:modified xsi:type="dcterms:W3CDTF">2011-07-21T07:39:12Z</dcterms:modified>
  <cp:revision>210</cp:revision>
  <dc:subject/>
  <dc:title>슬라이드 1</dc:title>
</cp:coreProperties>
</file>