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A788F9-CD13-4829-A2C5-B9ED44248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84960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4000" y="3728880"/>
            <a:ext cx="84960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992408-E9FD-4C00-942F-51AA539A1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748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24000" y="372888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7480" y="372888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7B02F3-9881-4A54-B7FA-0D96CF74E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96800" y="90792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69600" y="90792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24000" y="372888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96800" y="372888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69600" y="372888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3783E8-4818-47EF-8DF9-832F24F64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41457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7480" y="907920"/>
            <a:ext cx="41457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08000" y="191160"/>
            <a:ext cx="8928000" cy="199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7480" y="907920"/>
            <a:ext cx="41457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324000" y="372888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94C137-5E16-4384-B154-E59471D57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41457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748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7480" y="372888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748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24000" y="3728880"/>
            <a:ext cx="84960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84960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24000" y="3728880"/>
            <a:ext cx="84960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748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24000" y="372888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7480" y="372888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196800" y="90792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69600" y="90792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24000" y="372888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196800" y="372888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69600" y="372888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250E15-463C-4EEF-9801-6E0FAB2C429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F1334B-01D2-4F88-90FC-FFA11A65643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ED9EBE-41D2-446D-AA35-CB00EBC12B6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41457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7480" y="907920"/>
            <a:ext cx="41457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97C9A7-9745-407C-8A1F-5D98FC88CAE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4B14CB-8D50-406F-B45C-8AA15B83887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94934B-5632-47FF-9CDE-DACE5D983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108000" y="191160"/>
            <a:ext cx="8928000" cy="199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0CE4DA-2C19-45EB-90FF-6EA890F2DE0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7480" y="907920"/>
            <a:ext cx="41457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324000" y="372888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1C3D1F-3A15-49D8-A9B0-0FCA9E959C1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41457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748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7480" y="372888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7BE308-FAE6-4AC5-B166-7F39BF9881B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748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324000" y="3728880"/>
            <a:ext cx="84960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4DC4B0-3B81-4369-A162-0AD08DBF0B6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84960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4000" y="3728880"/>
            <a:ext cx="84960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E4052C-1B1E-406F-985F-E3E57229FB1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748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324000" y="372888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7480" y="372888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446D65-BBC3-4308-902C-867DD72D53D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196800" y="90792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69600" y="90792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324000" y="372888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196800" y="372888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69600" y="372888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22817C-0BD9-4E65-9F45-E5AC290473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41457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7480" y="907920"/>
            <a:ext cx="41457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14A906-BB0E-4252-ABD5-747E43187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39EC26-1578-4BAB-B97B-6DDD6E98E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8000" y="191160"/>
            <a:ext cx="8928000" cy="199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24F473-707F-44FF-A849-CDBB5156B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7480" y="907920"/>
            <a:ext cx="41457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24000" y="372888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E5953F-5B3E-4FF7-B945-ED8321DF2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41457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748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7480" y="372888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A2C0CC-93FE-4557-AC57-CA682308B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748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24000" y="3728880"/>
            <a:ext cx="84960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F6F7FA-55D5-43B1-8758-9EA410C48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353535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2" descr="bg_master_main_shadowed"/>
          <p:cNvPicPr/>
          <p:nvPr/>
        </p:nvPicPr>
        <p:blipFill>
          <a:blip r:embed="rId2"/>
          <a:stretch/>
        </p:blipFill>
        <p:spPr>
          <a:xfrm>
            <a:off x="0" y="719280"/>
            <a:ext cx="9150480" cy="6138720"/>
          </a:xfrm>
          <a:prstGeom prst="rect">
            <a:avLst/>
          </a:prstGeom>
          <a:ln w="0">
            <a:noFill/>
          </a:ln>
        </p:spPr>
      </p:pic>
      <p:pic>
        <p:nvPicPr>
          <p:cNvPr id="1" name="Picture 11" descr="수정3"/>
          <p:cNvPicPr/>
          <p:nvPr/>
        </p:nvPicPr>
        <p:blipFill>
          <a:blip r:embed="rId3"/>
          <a:stretch/>
        </p:blipFill>
        <p:spPr>
          <a:xfrm>
            <a:off x="69840" y="60480"/>
            <a:ext cx="9004320" cy="687240"/>
          </a:xfrm>
          <a:prstGeom prst="rect">
            <a:avLst/>
          </a:prstGeom>
          <a:ln w="0">
            <a:noFill/>
          </a:ln>
        </p:spPr>
      </p:pic>
      <p:sp>
        <p:nvSpPr>
          <p:cNvPr id="2" name="Rectangle 12"/>
          <p:cNvSpPr/>
          <p:nvPr/>
        </p:nvSpPr>
        <p:spPr>
          <a:xfrm>
            <a:off x="166680" y="162000"/>
            <a:ext cx="831708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sldNum" idx="1"/>
          </p:nvPr>
        </p:nvSpPr>
        <p:spPr>
          <a:xfrm>
            <a:off x="8388360" y="6428880"/>
            <a:ext cx="606240" cy="26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ahoma"/>
                <a:ea typeface="돋움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12DB4-7788-42F2-A7D6-EB1BCCB463CD}" type="slidenum">
              <a:rPr b="0" lang="en-US" sz="1000" spc="-1" strike="noStrike">
                <a:solidFill>
                  <a:srgbClr val="969696"/>
                </a:solidFill>
                <a:latin typeface="Tahoma"/>
                <a:ea typeface="돋움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body"/>
          </p:nvPr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270000" indent="-2700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270000" indent="-2700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270000" indent="-2700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70000" indent="-2700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70000" indent="-2700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70000" indent="-2700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dt" idx="2"/>
          </p:nvPr>
        </p:nvSpPr>
        <p:spPr>
          <a:xfrm>
            <a:off x="205920" y="6453000"/>
            <a:ext cx="2133720" cy="2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000" spc="-1" strike="noStrike">
                <a:solidFill>
                  <a:srgbClr val="969696"/>
                </a:solidFill>
                <a:latin typeface="Tahoma"/>
                <a:ea typeface="돋움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969696"/>
                </a:solidFill>
                <a:latin typeface="Tahoma"/>
                <a:ea typeface="돋움"/>
              </a:rPr>
              <a:t>2000-00-0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ftr" idx="3"/>
          </p:nvPr>
        </p:nvSpPr>
        <p:spPr>
          <a:xfrm>
            <a:off x="3124080" y="6497280"/>
            <a:ext cx="2895840" cy="2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6d6d6d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표지9안"/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270000" indent="-2700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270000" indent="-2700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270000" indent="-2700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70000" indent="-2700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70000" indent="-2700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70000" indent="-2700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353535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2" descr="bg_master_main_shadowed"/>
          <p:cNvPicPr/>
          <p:nvPr/>
        </p:nvPicPr>
        <p:blipFill>
          <a:blip r:embed="rId2"/>
          <a:stretch/>
        </p:blipFill>
        <p:spPr>
          <a:xfrm>
            <a:off x="0" y="719280"/>
            <a:ext cx="9150480" cy="61387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1" descr="수정3"/>
          <p:cNvPicPr/>
          <p:nvPr/>
        </p:nvPicPr>
        <p:blipFill>
          <a:blip r:embed="rId3"/>
          <a:stretch/>
        </p:blipFill>
        <p:spPr>
          <a:xfrm>
            <a:off x="69840" y="60480"/>
            <a:ext cx="9004320" cy="68724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12"/>
          <p:cNvSpPr/>
          <p:nvPr/>
        </p:nvSpPr>
        <p:spPr>
          <a:xfrm>
            <a:off x="166680" y="162000"/>
            <a:ext cx="831708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270000" indent="-2700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270000" indent="-2700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270000" indent="-2700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70000" indent="-2700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70000" indent="-2700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70000" indent="-2700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Num" idx="4"/>
          </p:nvPr>
        </p:nvSpPr>
        <p:spPr>
          <a:xfrm>
            <a:off x="8388360" y="6428880"/>
            <a:ext cx="606240" cy="26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ahoma"/>
                <a:ea typeface="돋움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07158-855D-4A11-855D-5EA6166E9F48}" type="slidenum">
              <a:rPr b="0" lang="en-US" sz="1000" spc="-1" strike="noStrike">
                <a:solidFill>
                  <a:srgbClr val="969696"/>
                </a:solidFill>
                <a:latin typeface="Tahoma"/>
                <a:ea typeface="돋움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5"/>
          </p:nvPr>
        </p:nvSpPr>
        <p:spPr>
          <a:xfrm>
            <a:off x="3124080" y="6497280"/>
            <a:ext cx="2895840" cy="2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304720"/>
            <a:ext cx="77724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ffff"/>
                </a:solidFill>
                <a:latin typeface="Tahoma"/>
              </a:rPr>
              <a:t>Metin2 Server Win32 Port</a:t>
            </a:r>
            <a:endParaRPr b="1" lang="en-US" sz="3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4627080"/>
            <a:ext cx="6400800" cy="10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HY헤드라인M"/>
              </a:rPr>
              <a:t>jaykang@webzen.co.k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HY헤드라인M"/>
              </a:rPr>
              <a:t>2011. 07. 2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8000" y="192240"/>
            <a:ext cx="8928000" cy="42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ffff"/>
                </a:solidFill>
                <a:latin typeface="Tahoma"/>
              </a:rPr>
              <a:t>작업 시 주의</a:t>
            </a: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ko-KR" sz="2200" spc="-1" strike="noStrike">
                <a:solidFill>
                  <a:srgbClr val="ffffff"/>
                </a:solidFill>
                <a:latin typeface="Tahoma"/>
              </a:rPr>
              <a:t>사항</a:t>
            </a: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: FreeBSD</a:t>
            </a: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reeBSD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에서 리소스 파일 등에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ymbolic Link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사용 금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indows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ubversion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을 통해 해당 파일들을 내려 받으면 인식 불가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기존 맵 인덱스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78, 209, 210, 211, 215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에 사용된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ymbolic link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는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실제 파일로 대체할 필요가 있음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슬라이드 번호 개체 틀 3"/>
          <p:cNvSpPr/>
          <p:nvPr/>
        </p:nvSpPr>
        <p:spPr>
          <a:xfrm>
            <a:off x="8388360" y="6429240"/>
            <a:ext cx="60624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2EC49-1E4E-4616-95A1-1A5FEC3E5FB7}" type="slidenum">
              <a:rPr b="0" lang="en-US" sz="1000" spc="-1" strike="noStrike">
                <a:solidFill>
                  <a:srgbClr val="969696"/>
                </a:solidFill>
                <a:latin typeface="Tahoma"/>
                <a:ea typeface="돋움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8000" y="192240"/>
            <a:ext cx="8928000" cy="42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ffff"/>
                </a:solidFill>
                <a:latin typeface="Tahoma"/>
              </a:rPr>
              <a:t>작업 시 주의 사항</a:t>
            </a: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: Windows/VisualStudio</a:t>
            </a: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 u="sng">
                <a:solidFill>
                  <a:srgbClr val="000000"/>
                </a:solidFill>
                <a:uFillTx/>
                <a:latin typeface="Tahoma"/>
              </a:rPr>
              <a:t>개발은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Windows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Tahoma"/>
              </a:rPr>
              <a:t>에서 하더라도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,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Tahoma"/>
              </a:rPr>
              <a:t>대상 플랫폼은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FreeBSD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Tahoma"/>
              </a:rPr>
              <a:t>다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!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indows API, Microsoft CRT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함수 직접 호출 금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reeBSD Counterpart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를 찾아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, FreeBSD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중심으로 코딩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__WIN32__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전처리기 매크로 안에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indows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용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emulation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구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개발 테스트가 끝나면 반드시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reeBSD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개발 서버에서 빌드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확인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슬라이드 번호 개체 틀 3"/>
          <p:cNvSpPr/>
          <p:nvPr/>
        </p:nvSpPr>
        <p:spPr>
          <a:xfrm>
            <a:off x="8388360" y="6429240"/>
            <a:ext cx="60624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28E66-3CD3-4EAB-8506-BA6786285F13}" type="slidenum">
              <a:rPr b="0" lang="en-US" sz="1000" spc="-1" strike="noStrike">
                <a:solidFill>
                  <a:srgbClr val="969696"/>
                </a:solidFill>
                <a:latin typeface="Tahoma"/>
                <a:ea typeface="돋움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8000" y="192240"/>
            <a:ext cx="8928000" cy="42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ffff"/>
                </a:solidFill>
                <a:latin typeface="Tahoma"/>
              </a:rPr>
              <a:t>배경</a:t>
            </a: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552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etin2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서버 배포 대상 플랫폼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: FreeBSD 7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552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특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552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KQueu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552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reeBSD 4.1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이후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*BSD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계열로 확대된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lect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대안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552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ublisher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관점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552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KQueue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로 서비스에 충분한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I/O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성능 제공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552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OS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비용 절감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552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개발자 관점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552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reeBSD Console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작업 환경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552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db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디버깅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552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552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두 가지 모두가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indows &amp; VisualStudio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중심으로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552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작업해 오던 개발자들에게는 매우 가파른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learning curve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로 작용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552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&gt;&gt;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개발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테스트를 위한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indows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작업 환경 구축 요구 발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552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552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552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슬라이드 번호 개체 틀 3"/>
          <p:cNvSpPr/>
          <p:nvPr/>
        </p:nvSpPr>
        <p:spPr>
          <a:xfrm>
            <a:off x="8388360" y="6429240"/>
            <a:ext cx="60624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2462A-82BB-4E7D-AC91-D8A5ABBED7F3}" type="slidenum">
              <a:rPr b="0" lang="en-US" sz="1000" spc="-1" strike="noStrike">
                <a:solidFill>
                  <a:srgbClr val="969696"/>
                </a:solidFill>
                <a:latin typeface="Tahoma"/>
                <a:ea typeface="돋움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1" name="날짜 개체 틀 4"/>
          <p:cNvSpPr/>
          <p:nvPr/>
        </p:nvSpPr>
        <p:spPr>
          <a:xfrm>
            <a:off x="206280" y="6453360"/>
            <a:ext cx="213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969696"/>
                </a:solidFill>
                <a:latin typeface="Tahoma"/>
                <a:ea typeface="돋움"/>
              </a:rPr>
              <a:t>2000-00-00</a:t>
            </a:r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8000" y="192240"/>
            <a:ext cx="8928000" cy="42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ffff"/>
                </a:solidFill>
                <a:latin typeface="Tahoma"/>
              </a:rPr>
              <a:t>게임</a:t>
            </a: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ko-KR" sz="2200" spc="-1" strike="noStrike">
                <a:solidFill>
                  <a:srgbClr val="ffffff"/>
                </a:solidFill>
                <a:latin typeface="Tahoma"/>
              </a:rPr>
              <a:t>서버 </a:t>
            </a: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Cross-Platform </a:t>
            </a:r>
            <a:r>
              <a:rPr b="1" lang="ko-KR" sz="2200" spc="-1" strike="noStrike">
                <a:solidFill>
                  <a:srgbClr val="ffffff"/>
                </a:solidFill>
                <a:latin typeface="Tahoma"/>
              </a:rPr>
              <a:t>개발의 장단점</a:t>
            </a: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장점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개발과 실제 배포는 필요나 선호에 따라 선택된 독립적인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OS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에서 진행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개발자 각자 익숙한 작업 환경 선택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indows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에서 개발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, FreeBSD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에서 테스트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배포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단점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개발 환경과 실 배포 환경의 차이는 여러 가지 잠재적인 문제 내포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가장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대표적인 문제는 개발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배포 환경에서의 서로 다른 동작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특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두 플랫폼 이상에서의 빌드와 동작을 유지하는 것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한 플랫폼만 대상으로 하는 것보다 비용이 높아질 수 있음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단점에도 불구하고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한정된 조건에서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sualStudio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의 개발 생산성으로 얻는 이득이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충분히 클 것으로 예상됨에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따라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indows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포팅 결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슬라이드 번호 개체 틀 3"/>
          <p:cNvSpPr/>
          <p:nvPr/>
        </p:nvSpPr>
        <p:spPr>
          <a:xfrm>
            <a:off x="8388360" y="6429240"/>
            <a:ext cx="60624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FB567-1004-48AF-A410-B3C0F236CD16}" type="slidenum">
              <a:rPr b="0" lang="en-US" sz="1000" spc="-1" strike="noStrike">
                <a:solidFill>
                  <a:srgbClr val="969696"/>
                </a:solidFill>
                <a:latin typeface="Tahoma"/>
                <a:ea typeface="돋움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8000" y="192240"/>
            <a:ext cx="8928000" cy="42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Cross-Platform</a:t>
            </a:r>
            <a:r>
              <a:rPr b="1" lang="ko-KR" sz="2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ko-KR" sz="2200" spc="-1" strike="noStrike">
                <a:solidFill>
                  <a:srgbClr val="ffffff"/>
                </a:solidFill>
                <a:latin typeface="Tahoma"/>
              </a:rPr>
              <a:t>개발의 걸림돌</a:t>
            </a: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1720" indent="-261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상이한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OS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기능과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PI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1720" indent="-261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특정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OS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만이 제공하는 기능을 이용하는 경우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1720" indent="-261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예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) Windows IOCP, Linux dev/epoll, FreeBSD KQueue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1720" indent="-261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특정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OS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만이 제공하는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PI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함수들을 사용하는 경우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1720" indent="-261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indows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외에는 거의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OSIX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표준에서 크게 벗어나지 않음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1720" indent="-261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1720" indent="-261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상이한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ompiler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기능과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Librar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1720" indent="-261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CC g++ vs Visual C++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1720" indent="-261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 Runtime Library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의 차이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1720" indent="-261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예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) glib vs Microsoft Secure CR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1720" indent="-261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ompiler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전용 기능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전용 키워드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표기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구문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지원 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1720" indent="-261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예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) gcc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는 매크로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함수에도 가변 인자 지원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1720" indent="-261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별도의 중립적인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TL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을 공통으로 사용하지 않는다면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1720" indent="-261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기본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TL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의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표준 외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확장 부분 및 세부 구현의 차이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1720" indent="-261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슬라이드 번호 개체 틀 3"/>
          <p:cNvSpPr/>
          <p:nvPr/>
        </p:nvSpPr>
        <p:spPr>
          <a:xfrm>
            <a:off x="8388360" y="6429240"/>
            <a:ext cx="60624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127EA-B931-4C68-AE0B-8F82915E0996}" type="slidenum">
              <a:rPr b="0" lang="en-US" sz="1000" spc="-1" strike="noStrike">
                <a:solidFill>
                  <a:srgbClr val="969696"/>
                </a:solidFill>
                <a:latin typeface="Tahoma"/>
                <a:ea typeface="돋움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8000" y="192240"/>
            <a:ext cx="8928000" cy="42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Cross-Platform </a:t>
            </a:r>
            <a:r>
              <a:rPr b="1" lang="ko-KR" sz="2200" spc="-1" strike="noStrike">
                <a:solidFill>
                  <a:srgbClr val="ffffff"/>
                </a:solidFill>
                <a:latin typeface="Tahoma"/>
              </a:rPr>
              <a:t>접근법</a:t>
            </a: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bstrac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독립적인 인터페이스 또는 계층을 작성하고 둘 이상의 세부 구현을 연동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초기 구현에 적합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[+]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ood desig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[-]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사용자가 독립적인 인터페이스 또는 계층을 숙지할 필요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작성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유지보수 비용 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Emul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한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쪽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PI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를 중심으로 다른 쪽에서 인터페이스를 맞추어 가는 방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기존 구현 확장에 적합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[+]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이미 잘 문서화된 기존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PI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를 그대로 사용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빠른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구현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적용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[-]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ot so good desig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시간 상의 이유로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또 과도한 비용 투입을 피하기 위해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Emulation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선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슬라이드 번호 개체 틀 3"/>
          <p:cNvSpPr/>
          <p:nvPr/>
        </p:nvSpPr>
        <p:spPr>
          <a:xfrm>
            <a:off x="8388360" y="6429240"/>
            <a:ext cx="60624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68BB5-2EB9-4894-A1BB-B72D0BD84784}" type="slidenum">
              <a:rPr b="0" lang="en-US" sz="1000" spc="-1" strike="noStrike">
                <a:solidFill>
                  <a:srgbClr val="969696"/>
                </a:solidFill>
                <a:latin typeface="Tahoma"/>
                <a:ea typeface="돋움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8000" y="192240"/>
            <a:ext cx="8928000" cy="42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Metin2 </a:t>
            </a:r>
            <a:r>
              <a:rPr b="1" lang="ko-KR" sz="2200" spc="-1" strike="noStrike">
                <a:solidFill>
                  <a:srgbClr val="ffffff"/>
                </a:solidFill>
                <a:latin typeface="Tahoma"/>
              </a:rPr>
              <a:t>서버 </a:t>
            </a: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Windows/VisualStudio </a:t>
            </a:r>
            <a:r>
              <a:rPr b="1" lang="ko-KR" sz="2200" spc="-1" strike="noStrike">
                <a:solidFill>
                  <a:srgbClr val="ffffff"/>
                </a:solidFill>
                <a:latin typeface="Tahoma"/>
              </a:rPr>
              <a:t>포팅</a:t>
            </a: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arget Compiler: Microsoft Visual C++ 9.0 (Visual Studio 2008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작업 기간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: 2011-07-13(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수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) ~ 2011-07-20(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수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약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주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작업 개요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sual Studio 2008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솔루션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프로젝트 구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이미 코드에 존재하던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__WIN32__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전처리기 매크로로 조건부 컴파일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dwatch.c : KQueue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대신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insock select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사용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다룰 수 있는 소켓 최대 개수가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4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개로 제한되지만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개발 테스트용으로는 충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 Runtime Library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와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OS API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호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Tahoma"/>
              </a:rPr>
              <a:t>라이브 배포 대상인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FreeBSD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Tahoma"/>
              </a:rPr>
              <a:t>가 중심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!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indows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에서 지원되지 않는 부분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emul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슬라이드 번호 개체 틀 3"/>
          <p:cNvSpPr/>
          <p:nvPr/>
        </p:nvSpPr>
        <p:spPr>
          <a:xfrm>
            <a:off x="8388360" y="6429240"/>
            <a:ext cx="60624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C4272-1298-4357-87F8-7588DCD18AA4}" type="slidenum">
              <a:rPr b="0" lang="en-US" sz="1000" spc="-1" strike="noStrike">
                <a:solidFill>
                  <a:srgbClr val="969696"/>
                </a:solidFill>
                <a:latin typeface="Tahoma"/>
                <a:ea typeface="돋움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8000" y="192240"/>
            <a:ext cx="8928000" cy="42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Windows </a:t>
            </a:r>
            <a:r>
              <a:rPr b="1" lang="ko-KR" sz="2200" spc="-1" strike="noStrike">
                <a:solidFill>
                  <a:srgbClr val="ffffff"/>
                </a:solidFill>
                <a:latin typeface="Tahoma"/>
              </a:rPr>
              <a:t>서버 빌드 준비</a:t>
            </a: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ame/src/limit_time.h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생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같은 폴더 내의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pdate_limit_time.py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실행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: Python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필요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akefile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과는 달리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sualStudio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프로젝트 빌드 과정에 포함되지 않음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슬라이드 번호 개체 틀 3"/>
          <p:cNvSpPr/>
          <p:nvPr/>
        </p:nvSpPr>
        <p:spPr>
          <a:xfrm>
            <a:off x="8388360" y="6429240"/>
            <a:ext cx="60624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FEC0A-F433-4F20-8D95-59EE1AD1F3BF}" type="slidenum">
              <a:rPr b="0" lang="en-US" sz="1000" spc="-1" strike="noStrike">
                <a:solidFill>
                  <a:srgbClr val="969696"/>
                </a:solidFill>
                <a:latin typeface="Tahoma"/>
                <a:ea typeface="돋움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8000" y="192240"/>
            <a:ext cx="8928000" cy="42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Windows </a:t>
            </a:r>
            <a:r>
              <a:rPr b="1" lang="ko-KR" sz="2200" spc="-1" strike="noStrike">
                <a:solidFill>
                  <a:srgbClr val="ffffff"/>
                </a:solidFill>
                <a:latin typeface="Tahoma"/>
              </a:rPr>
              <a:t>서버 실행 준비</a:t>
            </a: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ONFIG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설정 파일 구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ysql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서버 접속 정보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vIL DLL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복사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libdevil/win32/bin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에서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ame, auth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디렉토리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b, game, auth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디렉토리에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log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하위디렉토리 생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ame/mark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디렉토리에 길드마크 이미지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인덱스 파일 복사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reeBSD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개발 테스트 서버에서 복사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현재 길드마크 인덱스 파일이 없는 경우 클라이언트 로그인 불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슬라이드 번호 개체 틀 3"/>
          <p:cNvSpPr/>
          <p:nvPr/>
        </p:nvSpPr>
        <p:spPr>
          <a:xfrm>
            <a:off x="8388360" y="6429240"/>
            <a:ext cx="60624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60358-42F3-4E50-855E-560C96C14678}" type="slidenum">
              <a:rPr b="0" lang="en-US" sz="1000" spc="-1" strike="noStrike">
                <a:solidFill>
                  <a:srgbClr val="969696"/>
                </a:solidFill>
                <a:latin typeface="Tahoma"/>
                <a:ea typeface="돋움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8000" y="192240"/>
            <a:ext cx="8928000" cy="42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ffff"/>
                </a:solidFill>
                <a:latin typeface="Tahoma"/>
              </a:rPr>
              <a:t>작업 시 주의 사항</a:t>
            </a: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: </a:t>
            </a:r>
            <a:r>
              <a:rPr b="1" lang="ko-KR" sz="2200" spc="-1" strike="noStrike">
                <a:solidFill>
                  <a:srgbClr val="ffffff"/>
                </a:solidFill>
                <a:latin typeface="Tahoma"/>
              </a:rPr>
              <a:t>공통</a:t>
            </a: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akefile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과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sualStudio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프로젝트 모두 항상 빌드 가능하게 유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Make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등에 의존하지 않는 한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다중 프로젝트 구성 수동 관리 필요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소스 파일 추가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제거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이름 변경 등이 발생하는 경우 특히 주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텍스트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파일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End-of-line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문자에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NIX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관례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사용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sual Studio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에서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NIX EOL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표시에 문제 없음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슬라이드 번호 개체 틀 3"/>
          <p:cNvSpPr/>
          <p:nvPr/>
        </p:nvSpPr>
        <p:spPr>
          <a:xfrm>
            <a:off x="8388360" y="6429240"/>
            <a:ext cx="60624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DF696-8CB0-4207-AFB5-D85BDD3140F0}" type="slidenum">
              <a:rPr b="0" lang="en-US" sz="1000" spc="-1" strike="noStrike">
                <a:solidFill>
                  <a:srgbClr val="969696"/>
                </a:solidFill>
                <a:latin typeface="Tahoma"/>
                <a:ea typeface="돋움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0T07:19:49Z</dcterms:created>
  <dc:creator>hjjoo</dc:creator>
  <dc:description/>
  <dc:language>en-US</dc:language>
  <cp:lastModifiedBy>cpascal</cp:lastModifiedBy>
  <dcterms:modified xsi:type="dcterms:W3CDTF">2011-07-21T07:39:12Z</dcterms:modified>
  <cp:revision>210</cp:revision>
  <dc:subject/>
  <dc:title>슬라이드 1</dc:title>
</cp:coreProperties>
</file>