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8EA79-162E-4DC0-871F-9B773F9F3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F40D7-F214-4D99-9B37-07336E0C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DB383-8CD4-49F6-8AA2-C442B8EC8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EF538-F7F1-47A9-984D-EFA5E11E2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BC3F0-7ACB-4D0A-BED3-DAD6505E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50073-B51B-414E-91EF-56DC14E0A11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CDE2E-152E-4313-9DB0-87F1D22BC74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D2B98-2B6F-4AA8-9929-4AB195756D9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0ACC7-7CD9-4697-A7A0-D787DC1DAA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ECEBF-770E-4A4E-B37D-3FA028D8E5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4C00C-4BE9-44AE-BC43-289B6FF3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AB237-2DD2-4CDF-9082-DC679F131AC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A5BDB2-F3CF-46E7-A926-BA1B9F556C5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B0024-8AC2-47DE-8A07-5049BD6D6B3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7FC29-F078-49CE-B89C-A8C9D3E5640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239C52-2C24-422D-9DA5-4ACBF452FC0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969CF-641F-40FE-ACD2-046C0D1C52C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6BEBE-D2F5-4386-81B8-7BD92ACE1F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87833-FC61-4D5A-BE04-642EDEE8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D7194-305B-4D44-8D33-4E6371C5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E240A-DB67-42E0-9278-169F031C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E68B0-56B2-4D92-B84E-60D57534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230CA-B194-4AB8-8C9C-2283B5A9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B6CC1-533E-4ACA-B06B-60B384EC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CEEB-62C2-4AB0-BEE2-126E07891549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205920" y="645300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6d6d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표지9안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4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8965-5AE7-4F7B-A9F5-856C28FE0C85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30472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Tahoma"/>
              </a:rPr>
              <a:t>Metin2 Server Win32 Port</a:t>
            </a:r>
            <a:endParaRPr b="1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627080"/>
            <a:ext cx="640080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jaykang@webzen.co.k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2011. 07. 2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FreeBSD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리소스 파일 등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ubversio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통해 해당 파일들을 내려 받으면 인식 불가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맵 인덱스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78, 209, 210, 211, 215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 사용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제 파일로 대체할 필요가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125D-7F1B-4110-8744-59B1AF3F1610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Windows/VisualStudio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개발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Windows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에서 하더라도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,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대상 플랫폼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다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API, Microsoft CR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 직접 호출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unterpart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찾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코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 안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용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가 끝나면 반드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서버에서 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인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4D68-1149-4D59-990F-2E8986560F27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배경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etin2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배포 대상 플랫폼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FreeBSD 7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4.1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*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계열로 확대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안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ublisher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서비스에 충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/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성능 제공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비용 절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nsol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db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버깅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가지 모두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&amp; 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해 오던 개발자들에게는 매우 가파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arning curv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작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&gt;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테스트를 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 구축 요구 발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1531-E695-4706-A439-1B7DDC394F05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날짜 개체 틀 4"/>
          <p:cNvSpPr/>
          <p:nvPr/>
        </p:nvSpPr>
        <p:spPr>
          <a:xfrm>
            <a:off x="206280" y="64533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게임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장단점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장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과 실제 배포는 필요나 선호에 따라 선택된 독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진행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각자 익숙한 작업 환경 선택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테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환경과 실 배포 환경의 차이는 여러 가지 잠재적인 문제 내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가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표적인 문제는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 환경에서의 서로 다른 동작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플랫폼 이상에서의 빌드와 동작을 유지하는 것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 플랫폼만 대상으로 하는 것보다 비용이 높아질 수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에도 불구하고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정된 조건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개발 생산성으로 얻는 이득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충분히 클 것으로 예상됨에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따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포팅 결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7F18-EB0A-42A9-8F3B-C15A57EA8A8B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걸림돌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기능을 이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Windows IOCP, Linux dev/epoll, FreeBSD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들을 사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외에는 거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OS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에서 크게 벗어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CC g++ vs Visual C++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lib vs Microsoft Secure CR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기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키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지원 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cc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 매크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에도 가변 인자 지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별도의 중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공통으로 사용하지 않는다면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 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장 부분 및 세부 구현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FABE-EEDC-49DC-9057-C5C0F797DAB4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접근법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독립적인 인터페이스 또는 계층을 작성하고 둘 이상의 세부 구현을 연동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초기 구현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자가 독립적인 인터페이스 또는 계층을 숙지할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성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유지보수 비용 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중심으로 다른 쪽에서 인터페이스를 맞추어 가는 방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구현 확장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잘 문서화된 기존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그대로 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빠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적용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ot so 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시간 상의 이유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또 과도한 비용 투입을 피하기 위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선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5075-6203-4ED6-A15B-B87877B6BED7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Metin2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/VisualStudio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포팅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arget Compiler: Microsoft Visual C++ 9.0 (Visual Studio 2008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기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2011-07-13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~ 2011-07-20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개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 2008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솔루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코드에 존재하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로 조건부 컴파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dwatch.c :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신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sock 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룰 수 있는 소켓 최대 개수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4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로 제한되지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용으로는 충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호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라이브 배포 대상인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가 중심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지원되지 않는 부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1C71-C696-49CA-B2C5-1489EF9BF5AE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빌드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src/limit_time.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같은 폴더 내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pdate_limit_time.py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행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Pyth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는 달리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빌드 과정에 포함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51F8-D0B4-4AEC-A234-42CEC62D0466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실행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FI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설정 파일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ysq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접속 정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vIL DL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devil/win32/bi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b, 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o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하위디렉토리 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mark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길드마크 이미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인덱스 파일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 서버에서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현재 길드마크 인덱스 파일이 없는 경우 클라이언트 로그인 불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D72C-ABC6-4EE4-8C50-1D9A9ED74DD4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공통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모두 항상 빌드 가능하게 유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Mak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에 의존하지 않는 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중 프로젝트 구성 수동 관리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소스 파일 추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제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름 변경 등이 발생하는 경우 특히 주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텍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파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nd-of-lin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문자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EO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시에 문제 없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645A-F935-4B9F-A286-295C259C9B22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7:19:49Z</dcterms:created>
  <dc:creator>hjjoo</dc:creator>
  <dc:description/>
  <dc:language>en-US</dc:language>
  <cp:lastModifiedBy>cpascal</cp:lastModifiedBy>
  <dcterms:modified xsi:type="dcterms:W3CDTF">2011-07-21T07:39:12Z</dcterms:modified>
  <cp:revision>210</cp:revision>
  <dc:subject/>
  <dc:title>슬라이드 1</dc:title>
</cp:coreProperties>
</file>